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D0D-9579-453E-9698-DC99AE1C4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6759-0C1F-4996-9A00-3F42C17B0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3B4-344C-4429-A846-60B3471FC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B235-3EBB-47DF-B9FF-02B383F46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99C-A505-410B-BBAF-598DFD857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622-BCC4-4389-90F9-93F5698DF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AAD-104E-4B7B-AEE9-99C5AB300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E72-F4C7-44E7-92A5-941A213B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886-6D1E-4574-A529-6DA94EE4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E9B-7804-4ECE-9767-F91BC345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DF3-7C00-405F-9F39-FECC143F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0A2-B795-4311-AA2E-1C7D41A6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A74-2A96-4845-A1ED-2D7063EE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E0C-7096-4AC0-81C6-B83DE5A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ECA-B89A-432A-B22F-8D6D660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29D-E22D-4737-927D-485CE2D2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061-DEC9-4672-81A6-B451B26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6CC-D62D-46F4-8048-28FBE7A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6B7-6FA9-42EF-9B0E-2F071DB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1B9-AF6E-47FB-A839-B1AE92B6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2133720"/>
            <a:ext cx="8280360" cy="21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up 10 opinions to describe different leisur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un, boring, 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ESE WILL BE ADJECTIVES, SO LOOK FO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THE START OF THE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84360" y="907920"/>
            <a:ext cx="3024000" cy="490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 key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ú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en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al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708360" y="907920"/>
            <a:ext cx="3024360" cy="490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x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oo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2060640"/>
            <a:ext cx="2951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780000" y="2492280"/>
            <a:ext cx="482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fference is there between these 2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2060640"/>
            <a:ext cx="295128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Por qué te gu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que es muy útil para mi fut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80000" y="2492280"/>
            <a:ext cx="482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work out what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4360" y="404640"/>
            <a:ext cx="3024000" cy="490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 key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ú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en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al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708360" y="404640"/>
            <a:ext cx="3024360" cy="490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x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oo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445000"/>
            <a:ext cx="50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5300640"/>
            <a:ext cx="4608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Por qué?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rque es…- because it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435640" y="5229360"/>
            <a:ext cx="3419280" cy="137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Por qué te gustan tus actividades favori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826920" y="1268280"/>
          <a:ext cx="7921800" cy="4032360"/>
        </p:xfrm>
        <a:graphic>
          <a:graphicData uri="http://schemas.openxmlformats.org/drawingml/2006/table">
            <a:tbl>
              <a:tblPr/>
              <a:tblGrid>
                <a:gridCol w="744840"/>
                <a:gridCol w="3319200"/>
                <a:gridCol w="38577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38"/>
          <p:cNvSpPr/>
          <p:nvPr/>
        </p:nvSpPr>
        <p:spPr>
          <a:xfrm>
            <a:off x="500364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9"/>
          <p:cNvSpPr/>
          <p:nvPr/>
        </p:nvSpPr>
        <p:spPr>
          <a:xfrm>
            <a:off x="507672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0"/>
          <p:cNvSpPr/>
          <p:nvPr/>
        </p:nvSpPr>
        <p:spPr>
          <a:xfrm>
            <a:off x="161928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500364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2"/>
          <p:cNvSpPr/>
          <p:nvPr/>
        </p:nvSpPr>
        <p:spPr>
          <a:xfrm>
            <a:off x="161928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3"/>
          <p:cNvSpPr/>
          <p:nvPr/>
        </p:nvSpPr>
        <p:spPr>
          <a:xfrm>
            <a:off x="161928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4"/>
          <p:cNvSpPr/>
          <p:nvPr/>
        </p:nvSpPr>
        <p:spPr>
          <a:xfrm>
            <a:off x="1619280" y="4076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5"/>
          <p:cNvSpPr/>
          <p:nvPr/>
        </p:nvSpPr>
        <p:spPr>
          <a:xfrm>
            <a:off x="5076720" y="4076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 for your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1619280" y="47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8"/>
          <p:cNvSpPr/>
          <p:nvPr/>
        </p:nvSpPr>
        <p:spPr>
          <a:xfrm>
            <a:off x="5076720" y="47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mi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"/>
          <p:cNvSpPr/>
          <p:nvPr/>
        </p:nvSpPr>
        <p:spPr>
          <a:xfrm>
            <a:off x="395280" y="333360"/>
            <a:ext cx="59054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ia la tabla- pero escribe en ing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leisure opinions.mp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15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7:54:53Z</dcterms:created>
  <dc:creator>Owner1</dc:creator>
  <dc:description/>
  <dc:language>en-US</dc:language>
  <cp:lastModifiedBy>Chris</cp:lastModifiedBy>
  <dcterms:modified xsi:type="dcterms:W3CDTF">2009-01-22T19:01:35Z</dcterms:modified>
  <cp:revision>4</cp:revision>
  <dc:subject/>
  <dc:title>Slide 1</dc:title>
</cp:coreProperties>
</file>